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35D4-7F8E-4848-9C80-3E28869F773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70AF-79DF-4E1A-A2DE-F633AABC49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D62-E3DE-427B-8567-049D5149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C21-0C01-4C0A-9AEF-3BF373CA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11F-41A5-4798-8679-A2BA3615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4A5-EB55-4208-8560-090D2D83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842E-9C3C-4B80-A484-4A4C3CCC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487-ED69-4A70-88B1-A7EB7FA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D3B-A0CB-4AB3-ADF8-7232B0C7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90A7-909B-49E7-A4E2-C278802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E397-53BB-4F6B-8D98-9A886DB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433C-9763-4CCC-B04E-9C34232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DA3A-A9C2-409E-8D07-57F1D8E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DBC-2B80-48DF-8588-3E58509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3CF-4399-4CBE-9A0E-F45A16A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5AA-A249-41E4-8171-20C0918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6DD-EB0C-4154-A428-8FD2154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FAE5-6761-4AE3-BBD9-4767E5B5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7ED7-F74B-4E7F-9CA7-2F3220A5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FD38-795E-40C5-AE57-34BDB228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323F-E86E-47AA-8DD9-D6E7DCB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01E4-B589-4524-80F6-6D4C57F0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805E-FEB6-40BA-A1BE-BD6D3B14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F57B-A97B-4A65-8A44-AB6F60D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EDE-0FBA-4A02-ACC2-65704230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1D43-5C0C-4122-8A2C-C0E75E38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D6AE-152D-4B29-9F0F-DE04B5B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B3E4-DD51-40D3-A095-2468410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D974-79AD-4738-B8F3-555640E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FF36-B9A2-4C18-BA6D-8947E22A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A9EF-4FED-4618-ADCA-B3026E9B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1EFE-ED4C-4777-B3B5-E7EDB931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A773-9615-491C-97C1-26DEC9E5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894A-7F08-40C4-9DAC-56CD2F3E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4902-B344-4E9C-8536-B258075A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6A1-E1C4-4919-9FF6-F8A163D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DF7B-0ACE-4346-A3A5-B3BF977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2F9F-0841-4234-854A-82801D15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76D42-12D7-4BEA-BC8D-6FD9875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FE3F-57DA-4920-9217-96427B5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16DA-4A89-49E5-9FA7-0CB86467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23EB-F2CC-460F-AFF1-A56DEAC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9B85-EAF6-4BD5-B9E6-DCE55B5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CD43-65E5-43C8-B0FC-5D26B278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621C-7B06-4E68-96AA-4C9232F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0E8E8-CE72-42CA-A245-EC0B8689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EB6-5130-47D4-800D-5E16E11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3A12-4533-4DE1-9BD0-195D5B3D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EE6E-2A55-450D-B6FB-43974998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CE4C-6693-4447-B324-B49F505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8F62-74AC-4461-AD1E-9C9E211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BEBC-0640-4B48-B52D-C5AC3666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CFFA-4C8D-4958-BA3C-E296427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9776-ABDD-461B-8E96-91469D8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BAAA-32DA-4911-8A33-3B536DF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A840-C470-44B7-94BB-FEEE98AC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85E0-986E-46CA-8E6B-D7B66ED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C32-97DE-4F99-A8C4-925DE3E4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DB90-8E79-42DA-9898-B9FDA8D3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1D54-1580-43B7-8397-22898273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A60D-7970-484F-ADF0-522C6E04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18F2-0577-4D92-AC99-63AE769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5519-5F3D-4A79-BDFD-2B4CA73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A34B0-F2F1-4144-8E0D-E27D178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9FCB-A1FF-4221-8A15-A67B901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25AD-DB3E-43D6-ADE5-9424315C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0938-6463-4961-B83B-728E706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6CD5-2098-4245-9FD4-D9592FB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D9B-55E0-4E95-898D-82769B3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421A6-8949-422A-BEBB-6221DB9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92FD-6FF1-4A58-902F-F87768C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A284-F93A-41F9-AAD3-0798DC83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891-124A-4ABF-873A-4F0276D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CE0-D94F-4781-997E-346967A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634-E258-4D91-8FB6-2E0E4A00256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B4D5-D907-4438-99A4-10A95E5200C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21C-97E7-4C1B-9ABD-9E579B71797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4A54-E0E4-46EA-9DBF-A8D00E2F92F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E6F-2274-4791-BCDC-5F498847C24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5D1-6E1F-4B10-BA16-1DB13F965B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3704-8D6D-426D-BD2E-2BA1F942EC9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7A2-CAD3-4FA0-9EDE-52FF34461C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D25-54E7-48F0-A288-E14802942CA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4DD2-21B3-44B3-8311-D366D6DF7F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14AC-5E96-43B6-98E7-FD6FCEEA907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04DB-CB0E-4AA8-9E90-069C583DC2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73" name="Título 1"/>
          <p:cNvSpPr/>
          <p:nvPr/>
        </p:nvSpPr>
        <p:spPr>
          <a:xfrm>
            <a:off x="627120" y="1341360"/>
            <a:ext cx="109411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CRÉDITO CONSIG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 – DF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75" name="Título 1"/>
          <p:cNvSpPr/>
          <p:nvPr/>
        </p:nvSpPr>
        <p:spPr>
          <a:xfrm>
            <a:off x="334800" y="701640"/>
            <a:ext cx="11247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xa Selic, Taxa de Empréstimo Consignado e Cartão de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m 1" descr=""/>
          <p:cNvPicPr/>
          <p:nvPr/>
        </p:nvPicPr>
        <p:blipFill>
          <a:blip r:embed="rId2"/>
          <a:stretch/>
        </p:blipFill>
        <p:spPr>
          <a:xfrm>
            <a:off x="334800" y="1549440"/>
            <a:ext cx="11449080" cy="49561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2"/>
          <p:cNvSpPr/>
          <p:nvPr/>
        </p:nvSpPr>
        <p:spPr>
          <a:xfrm>
            <a:off x="334800" y="1055520"/>
            <a:ext cx="11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De acordo com a ata do COPOM, a taxa SELIC deverá fechar o ano de 2017 em 7,25%, com previsão de chegar a 7,0%, no início de 201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6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" descr=""/>
          <p:cNvPicPr/>
          <p:nvPr/>
        </p:nvPicPr>
        <p:blipFill>
          <a:blip r:embed="rId2"/>
          <a:stretch/>
        </p:blipFill>
        <p:spPr>
          <a:xfrm>
            <a:off x="334800" y="2205000"/>
            <a:ext cx="11449080" cy="4392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3"/>
          <p:cNvSpPr/>
          <p:nvPr/>
        </p:nvSpPr>
        <p:spPr>
          <a:xfrm>
            <a:off x="334800" y="657360"/>
            <a:ext cx="11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Acumulado das Operações de Crédito realizadas por Instituições Financeiras com Aposentados e Pensionistas do INSS – Junho de 2015 a maio de 2017 – Valor da Operação em Milhares Cor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4"/>
          <p:cNvSpPr/>
          <p:nvPr/>
        </p:nvSpPr>
        <p:spPr>
          <a:xfrm>
            <a:off x="407880" y="658188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2"/>
          <p:cNvSpPr/>
          <p:nvPr/>
        </p:nvSpPr>
        <p:spPr>
          <a:xfrm>
            <a:off x="365040" y="1185840"/>
            <a:ext cx="1123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É importante destacar que, apesar das oscilações observadas na Selic, verifica-se desde novembro de 2016 uma tendência de queda nessa taxa e esse é um dos fatores, juntamente com o baixíssimo risco que essa modalidade de empréstimo oferece às instituições bancárias, para reduzir o teto dos empréstimos consignados do atual patam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334800" y="723960"/>
            <a:ext cx="10801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Carteira Consignado Por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14280" y="2066760"/>
            <a:ext cx="11017440" cy="4537080"/>
          </a:xfrm>
          <a:prstGeom prst="rect">
            <a:avLst/>
          </a:prstGeom>
          <a:ln w="0">
            <a:noFill/>
          </a:ln>
        </p:spPr>
      </p:pic>
      <p:sp>
        <p:nvSpPr>
          <p:cNvPr id="286" name="Retângulo 12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3"/>
          <p:cNvSpPr/>
          <p:nvPr/>
        </p:nvSpPr>
        <p:spPr>
          <a:xfrm>
            <a:off x="314280" y="1052640"/>
            <a:ext cx="1118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Percebe-se um aumento nos pedidos de portabilidade em todas as modalidades e a explicação provável são os cortes da Selic verificados recentemente, ou seja, com a redução da SELIC, ocorre diminuição nos custos de captação de emprést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Quantidade de empréstimos consignados averbados, por aposentados por invalidez, em 2017 (janeiro a agost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Imagem 2" descr=""/>
          <p:cNvPicPr/>
          <p:nvPr/>
        </p:nvPicPr>
        <p:blipFill>
          <a:blip r:embed="rId2"/>
          <a:stretch/>
        </p:blipFill>
        <p:spPr>
          <a:xfrm>
            <a:off x="1055520" y="2652840"/>
            <a:ext cx="9361800" cy="3627360"/>
          </a:xfrm>
          <a:prstGeom prst="rect">
            <a:avLst/>
          </a:prstGeom>
          <a:ln w="0">
            <a:noFill/>
          </a:ln>
        </p:spPr>
      </p:pic>
      <p:sp>
        <p:nvSpPr>
          <p:cNvPr id="291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ângulo 1"/>
          <p:cNvSpPr/>
          <p:nvPr/>
        </p:nvSpPr>
        <p:spPr>
          <a:xfrm>
            <a:off x="407880" y="1413000"/>
            <a:ext cx="113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Analisando os dados de consignados realizados por aposentados por invalidez, percebe-se que mais de 60% desses empréstimos são destinados a pessoas com 60 anos ou mais, e estes não estão comtemplados na revisão dos benefíci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4" name="Título 1"/>
          <p:cNvSpPr/>
          <p:nvPr/>
        </p:nvSpPr>
        <p:spPr>
          <a:xfrm>
            <a:off x="334800" y="765000"/>
            <a:ext cx="1152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ENEFICIÁRIOS DAS ESPÉCIES 32 E 92 COM MENOS DE 60 ANOS NA MACIÇA DE AGOSTO DE 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2" descr=""/>
          <p:cNvPicPr/>
          <p:nvPr/>
        </p:nvPicPr>
        <p:blipFill>
          <a:blip r:embed="rId2"/>
          <a:stretch/>
        </p:blipFill>
        <p:spPr>
          <a:xfrm>
            <a:off x="473040" y="1484280"/>
            <a:ext cx="11246040" cy="4392720"/>
          </a:xfrm>
          <a:prstGeom prst="rect">
            <a:avLst/>
          </a:prstGeom>
          <a:ln w="0">
            <a:noFill/>
          </a:ln>
        </p:spPr>
      </p:pic>
      <p:sp>
        <p:nvSpPr>
          <p:cNvPr id="296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8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OS ATIVOS ATÉ PRIMEIRA SEMANA DE SETEMBRO/2017 E CONTRATOS REALIZADOS POR APOSENTADOS POR INVALIDEZ, COM IDADE ABAIXO DE 6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6" descr=""/>
          <p:cNvPicPr/>
          <p:nvPr/>
        </p:nvPicPr>
        <p:blipFill>
          <a:blip r:embed="rId2"/>
          <a:stretch/>
        </p:blipFill>
        <p:spPr>
          <a:xfrm>
            <a:off x="1055520" y="1587600"/>
            <a:ext cx="10080720" cy="4721040"/>
          </a:xfrm>
          <a:prstGeom prst="rect">
            <a:avLst/>
          </a:prstGeom>
          <a:ln w="0">
            <a:noFill/>
          </a:ln>
        </p:spPr>
      </p:pic>
      <p:sp>
        <p:nvSpPr>
          <p:cNvPr id="300" name="Retângulo 8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302" name="Retângulo 2"/>
          <p:cNvSpPr/>
          <p:nvPr/>
        </p:nvSpPr>
        <p:spPr>
          <a:xfrm>
            <a:off x="334800" y="765000"/>
            <a:ext cx="10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3"/>
          <p:cNvSpPr/>
          <p:nvPr/>
        </p:nvSpPr>
        <p:spPr>
          <a:xfrm>
            <a:off x="479520" y="1268280"/>
            <a:ext cx="1058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 o objetivo de combater fraudes, evitar endividamento excessivo e disciplinar a utilização do cartão de crédito, o INSS estabeleceu, em maio de 2008, novas regras de utilização dos empréstimos consignados. As principais medidas foram: a proibição às instituições de operarem com beneficiários de outros estados; obrigatoriedade de crédito na conta em que o benefício é recebido; limite de crédito no cartão passa de três para duas vezes o valor do benefício; proibição às instituições de oferecer financiamento pelo plano de crédito consignado com prazo de ca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 determinações de ajuste procedidas pelo então MPS nesse programa de crédito têm gerado resultados positivos. Desde a eliminação da TAC, passando por várias reduções de teto de juros, até as últimas medidas para garantir maior segurança ao emprés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 que diz respeito à possibilidade de empréstimos por meio do cartão benefício, o INSS já está desenvolvendo um sistema para Empréstimos Consignados Online – ECO que deverá contemplar essa possib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1" descr=""/>
          <p:cNvPicPr/>
          <p:nvPr/>
        </p:nvPicPr>
        <p:blipFill>
          <a:blip r:embed="rId2"/>
          <a:stretch/>
        </p:blipFill>
        <p:spPr>
          <a:xfrm>
            <a:off x="738360" y="2637000"/>
            <a:ext cx="10440720" cy="3528720"/>
          </a:xfrm>
          <a:prstGeom prst="rect">
            <a:avLst/>
          </a:prstGeom>
          <a:ln w="0">
            <a:noFill/>
          </a:ln>
        </p:spPr>
      </p:pic>
      <p:sp>
        <p:nvSpPr>
          <p:cNvPr id="306" name="Retângulo 2"/>
          <p:cNvSpPr/>
          <p:nvPr/>
        </p:nvSpPr>
        <p:spPr>
          <a:xfrm>
            <a:off x="407880" y="1282680"/>
            <a:ext cx="108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Em relação à solicitação de readequação da taxa atual de juros, a sugestão é que a taxa de empréstimos consignados passe para 2,08%, e do cartão de crédito para 3,0%, pelos motivos ex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7"/>
          <p:cNvSpPr/>
          <p:nvPr/>
        </p:nvSpPr>
        <p:spPr>
          <a:xfrm>
            <a:off x="334800" y="69228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                                                                       02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9-27T15:34:11Z</dcterms:modified>
  <cp:revision>391</cp:revision>
  <dc:subject/>
  <dc:title>Demografia</dc:title>
</cp:coreProperties>
</file>